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696-63D9-4BB5-8933-410A6CF5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97F-A167-4469-99D4-79781D25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CF3-E925-4F34-8C7A-E85F39D6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2DC-327E-44A6-86DC-6BFE591D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BC1-80D2-4E45-9179-70DBCAE2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934-2C40-4A40-95EB-C0312EE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3D8-AE31-4911-BE77-69840170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D66-CB31-4980-AB38-A017D5EA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4DF-2494-45CA-8310-F4C1FBD7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1D6-F796-45AF-86D8-E953BA5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94A-C772-4351-95F2-D350E01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87C-A7D3-49AE-AAC7-42E9C88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219E-89FE-4002-B312-AC0B8CCEF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OP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spaño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pítulo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Direct Object Pronou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irect Object is the person or thing in a sentence that receives the action of the verb directly and answers the questions WHAT or WHOM of the ver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DOP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Subject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D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s-MX" sz="3200" spc="-1" strike="noStrike">
                <a:solidFill>
                  <a:srgbClr val="000000"/>
                </a:solidFill>
                <a:latin typeface="Calibri"/>
              </a:rPr>
              <a:t>Prono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Yo 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Tú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l/ella/ud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MX" sz="3200" spc="-1" strike="noStrike">
                <a:solidFill>
                  <a:srgbClr val="0b5395"/>
                </a:solidFill>
                <a:latin typeface="Calibri"/>
              </a:rPr>
              <a:t>LO, 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otro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b5395"/>
                </a:solidFill>
                <a:latin typeface="Calibri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los/ellas/u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b5395"/>
                </a:solidFill>
                <a:latin typeface="Calibri"/>
              </a:rPr>
              <a:t>LOS, 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we use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times a DOP is used instead of a noun. Meaning, it REPLACES the noun that answers the question WHAT or WHOM of the verb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lose the door.    What do I close?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oor (this is the DO—now replace it with a Pronoun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opens the book.  What does he open?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ook (this is the DO—replace it w/ a pronoun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do you know which DOP to repla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decide whether the noun is masculine or femin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—decide whether the noun is singular or plu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—look at your chart to determine which one. (Often you will be using the el/ella/ud or the ellos/ellas/u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ere does the DOP go in the sentence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—it go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  fro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onjugated verb,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 the 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He opens the book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opens it.  ------------El lo a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f the sentence is negativ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---if the sentence is negative, the DOP goes after the subject and the words NO or NUNCA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ill before the verb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I don’t see the book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don’t see it --------------No lo ve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. He never watches tv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never watches it. -------El nunca la mi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TENER vs. VENI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ienen que ha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ener + que + verb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obligation formu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* Somebody “has to do something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 </a:t>
            </a:r>
            <a:r>
              <a:rPr b="0" i="1" lang="en-US" sz="3000" spc="-1" strike="noStrike">
                <a:solidFill>
                  <a:srgbClr val="0b5395"/>
                </a:solidFill>
                <a:latin typeface="Calibri"/>
              </a:rPr>
              <a:t>tengo que estudia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a el exa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sotros </a:t>
            </a:r>
            <a:r>
              <a:rPr b="0" i="1" lang="en-US" sz="3000" spc="-1" strike="noStrike">
                <a:solidFill>
                  <a:srgbClr val="0b5395"/>
                </a:solidFill>
                <a:latin typeface="Calibri"/>
              </a:rPr>
              <a:t>tenemos que limpia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coci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see other act. In fil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9:55:46Z</dcterms:created>
  <dc:creator>Maple Lake</dc:creator>
  <dc:description/>
  <dc:language>en-US</dc:language>
  <cp:lastModifiedBy>Maple Lake</cp:lastModifiedBy>
  <dcterms:modified xsi:type="dcterms:W3CDTF">2009-01-07T19:22:09Z</dcterms:modified>
  <cp:revision>22</cp:revision>
  <dc:subject/>
  <dc:title>Direct Object Pronouns (DOPs)</dc:title>
</cp:coreProperties>
</file>